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EBC-2E8C-499E-90E5-32DAFFEC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686-1703-4BFA-8062-69C976FA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B1A-16FE-4847-A210-0E1C2F7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927-5C7A-4DB0-9535-17E6E5B5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F64-4CFE-4B66-81CD-F8E4E83B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A1B-B719-49D7-B6CE-00A1800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A117-73F9-4FFE-A0F5-690B2451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8824-0E2F-473D-8AF7-F19D55E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B7ED-9500-4802-AE84-619BDE5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84EF-BA6A-4204-8366-27A4D4E1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0D04-D07B-49BB-8BFA-08281BD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353-18FF-4502-AE37-3B064A7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C3FB-7DD0-4AFA-9F9A-9B4B958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601-7AA7-47F2-86C0-323B9FC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D6B-034D-46FD-B8EC-351431A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583C-617A-41BA-9CCB-AE549549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CBB-E5A5-4A08-AA6D-247A27C7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3AE-2C0D-48DF-8755-32069DE1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8BE-9851-4A71-8620-45DB922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B5D-EAF3-42EC-B71B-B1301CB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02E-8096-4A73-A9E4-7EF0513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9EA-ECD6-4D9B-AAB3-0865FCA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A56-6F18-4FE9-A44B-2B7F29C4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881-01E6-4C0E-9932-D1DF6E5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7ED-DB68-4108-AB4E-B1AF9A79CF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82F-1FC2-4CE1-8614-6087C22EF2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δαιμονιον ἐδησεν αὐτην ἀλλ’ οἱ Φαρισσαιοι λεγουσιν∙ Οὐ δει και οὐκ ἐξεστιν λυσαι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μία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δε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ὁ υἱὸς τοῦ θεοῦ, ἵνα λύσ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9-02-25T20:47:59Z</dcterms:modified>
  <cp:revision>31</cp:revision>
  <dc:subject/>
  <dc:title>Slide 1</dc:title>
</cp:coreProperties>
</file>